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412B-77DC-491F-8E1A-24D60DE836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6F2F-896D-43D6-95FB-50FDD6C56D86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657DE-387D-4453-8AB1-A10343D714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B02B-BB32-43FA-8248-50148B246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8CF96-DB8F-4D3F-A319-C4AC736DF2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3A05E-6427-4A99-AA24-0FB2773B6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0BDB2-122B-4FA4-85BB-A72C721D16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8B9F1-87A2-43F1-A405-9DB4957AE2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B3C4D-3E95-431E-B82F-8CEB3AE1E7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CF59D5-BE81-43D0-B3D6-3435C4624B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3C82E-FE66-4644-A54D-5800196653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31B642-2299-4597-A65E-84EB488866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BCF11-3850-4988-A837-220AB7A1EA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88621-A3BE-499C-8980-AA2E5733BE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EAC7C-1F98-44BB-AAC2-1C632EC907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6BB60-158B-42B2-93A1-1D67C8EE6D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72E65A-38F1-43A0-8CF8-DDEEFDDD11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D777B2-22E0-4083-BB66-016787EAE7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D4CA5-46C6-491E-9A5F-FD1F996CC6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85DBA-98CF-4287-8A00-DD4D7FE77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4763D-23E2-4921-9D22-0DEB206EF5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E79E2-268B-4493-9433-4C2BA44AA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DE8D-6FE2-49E0-B915-8CD008B02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A9A33-0017-4609-A6C1-FBC72E904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85FAC-1BC1-4CCC-91B0-91F1453387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9A85D-FFB4-4C1A-8F9F-260DF5C3CA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FD4470A-1A48-4C08-A1E4-77F7C850670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7B658C3-48E2-4286-B9C2-F3639A2A6CD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4267080" y="301680"/>
            <a:ext cx="4572000" cy="69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4356000" y="301680"/>
            <a:ext cx="4616640" cy="807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E45C875-6F24-4552-AFD0-9EA522AC2CDA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810F373-CF83-487A-B375-C4275AFB3F1C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7-07-03T08:52:35Z</dcterms:modified>
  <cp:revision>350</cp:revision>
  <dc:subject/>
  <dc:title>Exploratory Data Analysis</dc:title>
</cp:coreProperties>
</file>